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61F-D940-4DE7-A4D0-1A41BBA4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C3F6-89B1-49E4-97AF-767CF67E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DDF1-1244-45E4-8BA1-B745BB32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BF6D-6A8C-4F0B-BCB0-8629F7DB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6197-217A-4206-A9AA-57B7D64D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2EAE-BA15-4F8D-BB97-E455FED5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0EBB-6FFA-4BD6-9C2A-6E2C6190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D223-AF39-48CE-BE7A-82C392D0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8872-E8F1-4C4C-A6E6-9753B798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2DD7-9511-419F-965A-C4998B96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00D5-F669-4A74-96F9-83208164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D19-29C5-4E76-99FB-2576DBE4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BFEA-71EF-47FC-ABCC-B1AC70AF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A643-6B1A-4F29-B5BA-D58595BD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0397-AE09-47D9-8F04-B6F0DAEE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EF1C-81CB-42F4-8F3A-2913C16C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05B8-CCA3-4B74-A0CB-08BEB6D8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968-BCCA-4DDD-931B-1B4E0617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687-1134-4853-8F46-7B3D0809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A35B-529C-4245-8FC6-115E6F4F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8A9-A020-48CE-B690-5F9B6BDF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9CA-4825-4659-813E-8B707C12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D8A5-FFFD-457B-9847-60F0068F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AFFF-2FE7-4F69-9A02-72E68531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F962-A088-4FE5-838D-13C9A98A37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DBC8-D7C2-4739-93C9-2C1C96B03F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atbázis kezelé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ss alap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Űrlapok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hát a képernyős adatkezelésért felelőse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657396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lentések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z adatok, és a lekérdezések révén nyert információk kinyomtatása a jelentések segítségével történhet me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hetőség van az adatok csoportosítására, rész és végösszegek esztétikus megjelenítésé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gyebek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atelérési lap (lapok fül) tulajdonképpen egy Web-lap, segítségével az adatokat interneten tehetjük közz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makrók lehetővé teszik bizonyos alapműveletek automatizálásá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modulok alkalmazása végeredményben az Access programozását jelenti, egy speciális adatbázis-kezelő nyelv, az Access Basic segítségé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gyebek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Az eddigi objektum típusokból épül fel az Access adatbázis, melyet az Access egyetlen állományban tárol, melynek a kiterjesztése MDB (Microsoft DataBase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Az egyes objektumok kialakítását , megtervezését számos „varázsló” könnyíti meg, de ezek használata néha terh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Néhány közülük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Tábla varázsló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Beviteli mask varázsló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Kifejezés szerkesztő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Lekérdezés szerkesztő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Verdana"/>
              </a:rPr>
              <a:t>Autójelentés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A munka bármely pontján lehetőség van a Súgó igénybevételére, ami helyzet érzékeny i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atbázis tervezése, létrehozás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vezés papír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vezés és létrehozás Access segítségé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atkezelés alapfok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rvezés papír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felada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rvezzünk meg egy könyvtári nyilvántartó rendsz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ső probléma : milyen könyvtár kezelésére akarjuk használni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vezés első lépése a feladat pontosít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skolai könyvtár számára készül a rendsz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ilyen részfeladatokat kell ellátni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ik lesznek a rendszer használói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lyen információkra lesz szükségü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z olvasó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ájékozódásra, keresésre szeretné használni a rendszert a könyve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zerzőj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ím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émája szeri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zeretné tudni, hogy a kiválasztott könyv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ány oldal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ölcsönözhető-e, stb.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ilyen részfeladatokat kell ellátni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könyvtár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 leltár elkészítéséhez tudnia ke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Verdana"/>
              </a:rPr>
              <a:t>Az egyes könyvek árá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Verdana"/>
              </a:rPr>
              <a:t>Mely könyvek vannak kikölcsönözv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Kinél vannak könyve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Melyeket kellett volna már visszahoz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Kik a könyvtári tago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Milyen lakcímen érhetőek el, stb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Gondoskodnia kell az állomány karbantartásáról 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ghatározni az ellátáshoz szükséges adatok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éhány gyakorlati szempo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 egy tulajdonságot nem veszünk nyilvántartásba, válogatni, kérdezni sem tudunk e szer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z adatok összevonása egy mezőbe meggondolandó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ölösleges ismérv esetleg sok száz, ezer fölöslegesen begépelendő adatot jel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rüljük az adatok többszörös nyilvántartásá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áblázatok készíté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táblázatokat úgy kell elkészíteni, hog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inden mező közvetlen kapcsolatban álljon a táblázat témájáv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 tartalmazzon felesleges, származtatott, ismétlődő adato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z egyes mezők elemi adatokat tartalmazzana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lehető legkevesebb táblát használjuk, azok viszont minden szükséges adatot tartalmazzana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unkakörnyez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program indít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atbázis létrehozása, illetve létező megnyit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NORTHWIND minta adatbáz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 táblá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ell egy tábla a könyvekrő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ell egy az olvasókró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kölcsönzés regisztrálásához is szükség van egy táblá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z adatbázist ábrázolhatjuk adatmodell-diagram segítségével, vagy használhatjuk a formális szerkezeti leírást 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 táblá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KÖNV (szerző, cím, </a:t>
            </a:r>
            <a:r>
              <a:rPr b="0" lang="hu-HU" sz="2100" spc="-1" strike="noStrike" u="sng">
                <a:solidFill>
                  <a:srgbClr val="000000"/>
                </a:solidFill>
                <a:uFillTx/>
                <a:latin typeface="Verdana"/>
              </a:rPr>
              <a:t>leltáriszám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, beszerzésiár, kölcsönözhetőe, kiadó, kiadásiév, beszerzésdátuma, </a:t>
            </a:r>
            <a:r>
              <a:rPr b="0" i="1" lang="hu-HU" sz="2100" spc="-1" strike="noStrike">
                <a:solidFill>
                  <a:srgbClr val="000000"/>
                </a:solidFill>
                <a:latin typeface="Verdana"/>
              </a:rPr>
              <a:t>műfaj, témakör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, terjedelem, ismertető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OLVASÓ (</a:t>
            </a:r>
            <a:r>
              <a:rPr b="0" lang="hu-HU" sz="2100" spc="-1" strike="noStrike" u="sng">
                <a:solidFill>
                  <a:srgbClr val="000000"/>
                </a:solidFill>
                <a:uFillTx/>
                <a:latin typeface="Verdana"/>
              </a:rPr>
              <a:t>olvasókód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, vezetéknév, keresztnév, város, utcaházszám, irányítószám, foglalkozás, évfolyam, osztály, fénykép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KÖLCSÖNZÉS(</a:t>
            </a:r>
            <a:r>
              <a:rPr b="0" lang="hu-HU" sz="2100" spc="-1" strike="noStrike" u="sng">
                <a:solidFill>
                  <a:srgbClr val="000000"/>
                </a:solidFill>
                <a:uFillTx/>
                <a:latin typeface="Verdana"/>
              </a:rPr>
              <a:t>kölcsönzéskód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hu-HU" sz="2100" spc="-1" strike="noStrike">
                <a:solidFill>
                  <a:srgbClr val="000000"/>
                </a:solidFill>
                <a:latin typeface="Verdana"/>
              </a:rPr>
              <a:t>olvasókód, leltáriszám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, kölcsönzésdátuma, lejáratdátuma, visszadátum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MŰFAJOK(</a:t>
            </a:r>
            <a:r>
              <a:rPr b="0" lang="hu-HU" sz="2100" spc="-1" strike="noStrike" u="sng">
                <a:solidFill>
                  <a:srgbClr val="000000"/>
                </a:solidFill>
                <a:uFillTx/>
                <a:latin typeface="Verdana"/>
              </a:rPr>
              <a:t>műfaj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TÉMAKÖRÖK(</a:t>
            </a:r>
            <a:r>
              <a:rPr b="0" lang="hu-HU" sz="2100" spc="-1" strike="noStrike" u="sng">
                <a:solidFill>
                  <a:srgbClr val="000000"/>
                </a:solidFill>
                <a:uFillTx/>
                <a:latin typeface="Verdana"/>
              </a:rPr>
              <a:t>témakör</a:t>
            </a:r>
            <a:r>
              <a:rPr b="0" lang="hu-HU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rvezés, létrehozás az Access segítségéve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atbázis létrehozá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z access indítása után egy új adatbázis kell létrehozni, File/új adatbázis menüpo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 felkínált lehetőségek közül válasszuk az általános/adatbázis lehetőség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Adjuk meg az adatbázis nevét, ez lesz a fájl neve is egyb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Létrehozás után megjelenik egy üres, csak varázslókat tartalmazó adatbázis-abla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vel az adathordozóink a táblák lesznek először azokat kell megterveznün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álasszuk baloldalt a táblák gomb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zámos üzleti és magán célra használható táblázat terve található itt, de nekünk a táblázat létrehozása tervező nézetben a fon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megjelenő ablakban sok dolgot kell eldönteni, illetve megadni és kitölte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rvezé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önteni kell az adatábrázolás módjáról, tehát az adatok típusáról és méretérő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z adatlap felső részébe kell beírnunk a tervezett mező nevét, adattípusát, s rövid leírásá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táblázat alsó része a mezőtulajdonságok meghatározására szolgá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zőtulajdonságok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Mezőnév : az access támogatja a „beszélő nevek alkalmazásá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Adattípus : legördülő listából tudunk választan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Verdana"/>
              </a:rPr>
              <a:t>Mezőtulajdonság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Verdana"/>
              </a:rPr>
              <a:t>Mezőmére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Verdana"/>
              </a:rPr>
              <a:t>Formátu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Verdana"/>
              </a:rPr>
              <a:t>Tizedes helyek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Verdana"/>
              </a:rPr>
              <a:t>Bemeneti maszk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Verdana"/>
              </a:rPr>
              <a:t>Cí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Verdana"/>
              </a:rPr>
              <a:t>Alapértelmezett érték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Verdana"/>
              </a:rPr>
              <a:t>Érvényességi szabál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Verdana"/>
              </a:rPr>
              <a:t>Érvényesítési szöve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Verdana"/>
              </a:rPr>
              <a:t>Kötelező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Verdana"/>
              </a:rPr>
              <a:t>Nulla hossz, engedélyezés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Verdana"/>
              </a:rPr>
              <a:t>Indexelt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apcsolatok megadá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zközök/kapcsolatok menüpo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juk hozzá a táblákat az üres kapcsolatok ablakho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Összekötés egyszerűen az egérrel történi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kkor egy újabb ablak jelenik meg, melyen az összekötés tulajdonságait tudjuk megad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apcsolatok megadá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vatkozási integrit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kapcsolt táblába csak akkor lehet új rekordot felvenni, ha annak kulcsa megtalálható az elsődleges táblába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z elsődleges táblából nem törölhetünk adatot, ha a kapcsolt táblában neki megfelelő rekord létezi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kkor válaszható a tulajdonság, h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z elsődleges tábla illeszkedő mezője elsődleges kul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kapcsolt mezők adattípusa megegyezi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apcsolatok megadá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Kaszkádolt frissíté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Az elsődleges táblában valamely rekord elsődleges kulcsát módosítjuk, akkor az access automatikusan hozzáigazítja az összes további táblában lévő kapcsolt rekord illeszkedő értékei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Verdana"/>
              </a:rPr>
              <a:t>Kaszkádolt törlé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Ekkor az access az elsődleges tábla bármely rekordjának törlésekor automatikusan törli a csatolt táblában található kapcsolt rekordokat i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atbázis-abla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 minta adatbázis fájl megnyitása után egy úgynevezett adatbázis-ablak jelenik meg, ami mint egy vezérlőpultként funkcióná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47640" y="2637000"/>
            <a:ext cx="596268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atkezelés alapfok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endők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Új adatokat felven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atokat javítani, szerkeszte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zükségtelen rekordokat töröl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atokat rendez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z állományban keres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kordokat szűr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yomtatn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vitel, törlés, módosítá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Ehhez a tábláinkat az eddigi tervező nézet helyett, adatlap nézetben kell használnun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atbázis abla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legfontosabb fogalmak a baloldali „füleken” olvasható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fülekre kattintva tudunk az egyes objektum-típusok közt válta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zek a következők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áblá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kérdezése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Űrlapo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elentése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po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ró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ulo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áblá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z adatok nyilvántartása a táblák segítségével történi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relációs modellnek megfelelően a tábla adatai oszlopokra (mezőkre) és sorokra (rekordokra) vannak bont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mező az adatok egy tulajdonságát írja 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rekord az egy dologról tárolt információk összessé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tábla összes rekordja ugyanazon mezőkből á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áblák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k elszigetelt tábla még nem adatbázis, a táblák között kapcsolatokat hozhatunk létre, illetve meg is tekinthetjük azok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47640" y="2924280"/>
            <a:ext cx="599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ekérdezések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lekérdezések a táblákban tárolt nyers adatok feldolgozását, elemzését, esetleg módosítását segítik elő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lekérdezés legtöbbször egy egyszerűen megfogalmazható kérdés, melyet adatainkkal kapcsolatban teszünk f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kapott válasz egy minden alkalommal aktualizálódó rekordhalmaz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ekérdezések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6800760" cy="40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Űrlapok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z adatok megjelenítése sokszor nem elég szemléletes táblázatos formáb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z űrlapok segítségével szemléletesebben jeleníthetjük me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sonlóan megkönnyíti az adatok bevitelét 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08:17Z</dcterms:created>
  <dc:creator>Nagymáté Péter</dc:creator>
  <dc:description/>
  <dc:language>en-US</dc:language>
  <cp:lastModifiedBy>Nagymáté Péter</cp:lastModifiedBy>
  <dcterms:modified xsi:type="dcterms:W3CDTF">2004-01-13T12:26:46Z</dcterms:modified>
  <cp:revision>15</cp:revision>
  <dc:subject/>
  <dc:title>Adatbázis kezelés</dc:title>
</cp:coreProperties>
</file>